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E71D8-4B1D-453A-815E-22B578162C1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9A5AA-B01A-4A71-9D32-B3D2D556C0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E12A5-B68F-44B1-BE51-52A11428BCB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4379D-D1D7-4352-A660-C5DA34560F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D84E2-C625-450E-9331-1534743DB80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2FEC1-C87B-4424-BDEE-9CE405A8DE6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8EEE5-B0CD-4BFD-A520-417BD68AB85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23C15-1168-4A17-9A2B-7CCC38933A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B8FE4-9826-48E5-AB2E-413C8391E81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7130E-A551-4D23-9BE6-020008FE2C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F140C-72DF-4BB2-921B-FB6B3952DBC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84B0-299B-4F10-AF85-DC9E9781C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28A5-F074-488E-97EA-4D760F36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8563-0EF6-42A8-9379-07E039B2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ABEC-68F0-4C07-A7B9-74FA5BDA67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CCB9-5E34-4742-B4B3-816F9527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3CDD-C222-4C45-ABA3-A952D89E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A909-D6AD-4E7E-9AE1-6612CEFF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886C-899B-463E-85B7-64A74051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20E4-4615-46B1-A731-B85BB3FE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FB1E-4D30-428D-8DE2-7337AD8E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F6D4C-5A02-44DA-A374-DECADD59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8E01-34CD-4466-AFF4-A5C3ECC0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0735FD-20E1-435E-AE18-9F6AED15C1AD}" type="slidenum"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S CAPAS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capas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6116760" cy="4512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7736040" y="1413000"/>
            <a:ext cx="1228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 corte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593120" y="2565360"/>
            <a:ext cx="1299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ma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7308720" y="4365720"/>
            <a:ext cx="1371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núcl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3708360" y="5950080"/>
            <a:ext cx="2808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5000b"/>
                </a:solidFill>
                <a:latin typeface="Arial"/>
              </a:rPr>
              <a:t>Pulsa sobre cada nombre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19 Conector recto"/>
          <p:cNvSpPr/>
          <p:nvPr/>
        </p:nvSpPr>
        <p:spPr>
          <a:xfrm>
            <a:off x="6872400" y="154476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22 Conector recto"/>
          <p:cNvSpPr/>
          <p:nvPr/>
        </p:nvSpPr>
        <p:spPr>
          <a:xfrm>
            <a:off x="7448400" y="1616040"/>
            <a:ext cx="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23 Conector recto"/>
          <p:cNvSpPr/>
          <p:nvPr/>
        </p:nvSpPr>
        <p:spPr>
          <a:xfrm>
            <a:off x="6872400" y="161604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25 Conector recto"/>
          <p:cNvSpPr/>
          <p:nvPr/>
        </p:nvSpPr>
        <p:spPr>
          <a:xfrm>
            <a:off x="6512040" y="3632040"/>
            <a:ext cx="93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33 Conector recto"/>
          <p:cNvSpPr/>
          <p:nvPr/>
        </p:nvSpPr>
        <p:spPr>
          <a:xfrm>
            <a:off x="6512040" y="370368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35 Conector recto"/>
          <p:cNvSpPr/>
          <p:nvPr/>
        </p:nvSpPr>
        <p:spPr>
          <a:xfrm>
            <a:off x="6224760" y="543240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37 Conector recto"/>
          <p:cNvSpPr/>
          <p:nvPr/>
        </p:nvSpPr>
        <p:spPr>
          <a:xfrm>
            <a:off x="7304040" y="3703680"/>
            <a:ext cx="0" cy="172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capas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1428840" cy="442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3060720" y="3708360"/>
            <a:ext cx="575928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3800520" y="907920"/>
            <a:ext cx="50925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capa más exter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muy delgada en comparación c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anto y el núcle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á formado por rocas sólidas y rígi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ivide 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971640" y="692280"/>
            <a:ext cx="43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corte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119640" y="2708280"/>
            <a:ext cx="3024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teza continent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se localiza en los continentes y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plataformas continent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879640" y="2808360"/>
            <a:ext cx="28796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teza oceán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se localiza en los fondos oceánicos. Es más delgada y densa que la contin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31 Conector recto"/>
          <p:cNvSpPr/>
          <p:nvPr/>
        </p:nvSpPr>
        <p:spPr>
          <a:xfrm>
            <a:off x="4067280" y="3860640"/>
            <a:ext cx="0" cy="14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33 Conector recto"/>
          <p:cNvSpPr/>
          <p:nvPr/>
        </p:nvSpPr>
        <p:spPr>
          <a:xfrm>
            <a:off x="6300720" y="3573360"/>
            <a:ext cx="0" cy="14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45 Grupo"/>
          <p:cNvGrpSpPr/>
          <p:nvPr/>
        </p:nvGrpSpPr>
        <p:grpSpPr>
          <a:xfrm>
            <a:off x="395280" y="1484280"/>
            <a:ext cx="2664000" cy="4753080"/>
            <a:chOff x="395280" y="1484280"/>
            <a:chExt cx="2664000" cy="4753080"/>
          </a:xfrm>
        </p:grpSpPr>
        <p:grpSp>
          <p:nvGrpSpPr>
            <p:cNvPr id="94" name="44 Grupo"/>
            <p:cNvGrpSpPr/>
            <p:nvPr/>
          </p:nvGrpSpPr>
          <p:grpSpPr>
            <a:xfrm>
              <a:off x="395280" y="1484280"/>
              <a:ext cx="2664000" cy="4753080"/>
              <a:chOff x="395280" y="1484280"/>
              <a:chExt cx="2664000" cy="4753080"/>
            </a:xfrm>
          </p:grpSpPr>
          <p:sp>
            <p:nvSpPr>
              <p:cNvPr id="95" name="24 Conector recto"/>
              <p:cNvSpPr/>
              <p:nvPr/>
            </p:nvSpPr>
            <p:spPr>
              <a:xfrm>
                <a:off x="2699280" y="4149000"/>
                <a:ext cx="0" cy="208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30 Conector recto"/>
              <p:cNvSpPr/>
              <p:nvPr/>
            </p:nvSpPr>
            <p:spPr>
              <a:xfrm>
                <a:off x="2699280" y="623736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37 Conector recto"/>
              <p:cNvSpPr/>
              <p:nvPr/>
            </p:nvSpPr>
            <p:spPr>
              <a:xfrm>
                <a:off x="2699280" y="414900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38 Elipse"/>
              <p:cNvSpPr/>
              <p:nvPr/>
            </p:nvSpPr>
            <p:spPr>
              <a:xfrm>
                <a:off x="395280" y="1484280"/>
                <a:ext cx="1368000" cy="1296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40 Conector recto"/>
              <p:cNvSpPr/>
              <p:nvPr/>
            </p:nvSpPr>
            <p:spPr>
              <a:xfrm>
                <a:off x="1763280" y="2132280"/>
                <a:ext cx="504000" cy="288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42 Conector recto"/>
            <p:cNvSpPr/>
            <p:nvPr/>
          </p:nvSpPr>
          <p:spPr>
            <a:xfrm>
              <a:off x="2267280" y="501300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capas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1800360" cy="5580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4572000" y="1413000"/>
            <a:ext cx="408456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capa intermedia, y la más grue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á formada por rocas más densas que las de la corteza y sólidas en su mayorí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ocas de la parte superior son rígidas, pero en la mayor parte del manto son relativamente blandas (plásticas), y en algunas zonas se encuentran fundi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008000" y="62064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l ma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9"/>
          <p:cNvSpPr/>
          <p:nvPr/>
        </p:nvSpPr>
        <p:spPr>
          <a:xfrm>
            <a:off x="2700360" y="1627200"/>
            <a:ext cx="900000" cy="1440"/>
          </a:xfrm>
          <a:custGeom>
            <a:avLst/>
            <a:gdLst>
              <a:gd name="textAreaLeft" fmla="*/ 0 w 900000"/>
              <a:gd name="textAreaRight" fmla="*/ 900360 w 9000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501" h="1">
                <a:moveTo>
                  <a:pt x="0" y="0"/>
                </a:moveTo>
                <a:lnTo>
                  <a:pt x="25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0"/>
          <p:cNvSpPr/>
          <p:nvPr/>
        </p:nvSpPr>
        <p:spPr>
          <a:xfrm>
            <a:off x="3600360" y="1627200"/>
            <a:ext cx="1800" cy="2521080"/>
          </a:xfrm>
          <a:custGeom>
            <a:avLst/>
            <a:gdLst>
              <a:gd name="textAreaLeft" fmla="*/ 0 w 1800"/>
              <a:gd name="textAreaRight" fmla="*/ 2160 w 180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1" h="7001">
                <a:moveTo>
                  <a:pt x="0" y="700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340000" y="4146480"/>
            <a:ext cx="1260360" cy="180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501" h="1">
                <a:moveTo>
                  <a:pt x="0" y="0"/>
                </a:moveTo>
                <a:lnTo>
                  <a:pt x="35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600360" y="2647800"/>
            <a:ext cx="1260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24000" y="1617840"/>
            <a:ext cx="72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nto ríg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24000" y="2752560"/>
            <a:ext cx="82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nto plást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971640" y="1773360"/>
            <a:ext cx="504720" cy="71280"/>
          </a:xfrm>
          <a:custGeom>
            <a:avLst/>
            <a:gdLst>
              <a:gd name="textAreaLeft" fmla="*/ 0 w 504720"/>
              <a:gd name="textAreaRight" fmla="*/ 505080 w 5047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501" h="1">
                <a:moveTo>
                  <a:pt x="0" y="0"/>
                </a:moveTo>
                <a:lnTo>
                  <a:pt x="25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9"/>
          <p:cNvSpPr/>
          <p:nvPr/>
        </p:nvSpPr>
        <p:spPr>
          <a:xfrm>
            <a:off x="1042920" y="2968560"/>
            <a:ext cx="684360" cy="46080"/>
          </a:xfrm>
          <a:custGeom>
            <a:avLst/>
            <a:gdLst>
              <a:gd name="textAreaLeft" fmla="*/ 0 w 684360"/>
              <a:gd name="textAreaRight" fmla="*/ 684720 w 6843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501" h="1">
                <a:moveTo>
                  <a:pt x="0" y="0"/>
                </a:moveTo>
                <a:lnTo>
                  <a:pt x="25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capas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900000" y="873000"/>
            <a:ext cx="1800360" cy="5580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211640" y="1413000"/>
            <a:ext cx="4645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capa más interna de la Tierra, así como la más den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á formada por met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istinguen do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Núcleo extern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es una capa líquida de metal fund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Núcleo intern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se encuentra en estado sól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971640" y="54936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l núcl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9"/>
          <p:cNvSpPr/>
          <p:nvPr/>
        </p:nvSpPr>
        <p:spPr>
          <a:xfrm>
            <a:off x="2340000" y="4111560"/>
            <a:ext cx="1081080" cy="18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160720" y="6272280"/>
            <a:ext cx="1260360" cy="144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01" h="1">
                <a:moveTo>
                  <a:pt x="0" y="0"/>
                </a:moveTo>
                <a:lnTo>
                  <a:pt x="35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11"/>
          <p:cNvSpPr/>
          <p:nvPr/>
        </p:nvSpPr>
        <p:spPr>
          <a:xfrm>
            <a:off x="3419640" y="4111560"/>
            <a:ext cx="1440" cy="2160720"/>
          </a:xfrm>
          <a:custGeom>
            <a:avLst/>
            <a:gdLst>
              <a:gd name="textAreaLeft" fmla="*/ 0 w 1440"/>
              <a:gd name="textAreaRight" fmla="*/ 1800 w 144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1" h="6001">
                <a:moveTo>
                  <a:pt x="0" y="600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3419640" y="5011560"/>
            <a:ext cx="900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24000" y="408636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úcleo exter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95280" y="5165640"/>
            <a:ext cx="811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úcleo inter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9"/>
          <p:cNvSpPr/>
          <p:nvPr/>
        </p:nvSpPr>
        <p:spPr>
          <a:xfrm>
            <a:off x="1187280" y="4302000"/>
            <a:ext cx="578160" cy="44640"/>
          </a:xfrm>
          <a:custGeom>
            <a:avLst/>
            <a:gdLst>
              <a:gd name="textAreaLeft" fmla="*/ 0 w 578160"/>
              <a:gd name="textAreaRight" fmla="*/ 578520 w 57816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9"/>
          <p:cNvSpPr/>
          <p:nvPr/>
        </p:nvSpPr>
        <p:spPr>
          <a:xfrm>
            <a:off x="1187280" y="5381640"/>
            <a:ext cx="578160" cy="46080"/>
          </a:xfrm>
          <a:custGeom>
            <a:avLst/>
            <a:gdLst>
              <a:gd name="textAreaLeft" fmla="*/ 0 w 578160"/>
              <a:gd name="textAreaRight" fmla="*/ 578520 w 5781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10:30Z</dcterms:modified>
  <cp:revision>53</cp:revision>
  <dc:subject/>
  <dc:title>Diapositiva 1</dc:title>
</cp:coreProperties>
</file>